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E2F5-8DD2-402B-BE33-E4246E98F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is not currently an OBI term.  Is it a synonym for investig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design is not currently an OBI term.  Is it a synonym of investigation de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EF8-3564-48B1-8040-36188EE2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794-A49D-4C4A-8EAE-B210A4D7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BED-F43F-41D8-B4BE-69ACD077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324-4B40-4B62-BC3E-1B9A3C54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0B1-0EC6-43DE-B922-0924D268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787-9E2C-4A24-B7FE-FC4040E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C10-A55A-4945-B4D3-5FDBBD8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672-6B20-4B1D-B7DE-695B6472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0EE-DDEB-4FA2-9D8B-64EA3425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21B-4F96-41B9-8A36-4BC49C4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584-F842-468D-B7F9-1C2237E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C17-BC33-4794-8C5F-19DA633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5A6-5502-4635-8EEA-0E4EAB2D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3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membership into BFO/OBI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400000">
            <a:off x="1531440" y="-291960"/>
            <a:ext cx="6122880" cy="81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81600" y="4805280"/>
            <a:ext cx="201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iological marke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population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Trial coordinato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variab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rug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ubject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3764" t="30841" r="2979" b="24000"/>
          <a:stretch/>
        </p:blipFill>
        <p:spPr>
          <a:xfrm>
            <a:off x="2428920" y="1522440"/>
            <a:ext cx="4219560" cy="3303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762" t="26392" r="5988" b="29168"/>
          <a:stretch/>
        </p:blipFill>
        <p:spPr>
          <a:xfrm>
            <a:off x="762120" y="952560"/>
            <a:ext cx="7924680" cy="325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95720" y="4202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5440" y="4943520"/>
            <a:ext cx="31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ase repor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atient fi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nsen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vestigational 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3411" t="31077" r="3514" b="24305"/>
          <a:stretch/>
        </p:blipFill>
        <p:spPr>
          <a:xfrm>
            <a:off x="469800" y="1663560"/>
            <a:ext cx="8102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2108" t="28995" r="8332" b="29168"/>
          <a:stretch/>
        </p:blipFill>
        <p:spPr>
          <a:xfrm>
            <a:off x="851040" y="1231920"/>
            <a:ext cx="7759440" cy="30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84880" y="4295880"/>
            <a:ext cx="283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Meta-analysi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assuranc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control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aseline assessment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Validatio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ding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ermuted block randomiz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study-protocol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tervention-step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linding-method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3840" y="43020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795840"/>
            <a:ext cx="152388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0600" y="1798560"/>
            <a:ext cx="290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evelopment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ndard operating procedure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tistical analysis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529000"/>
            <a:ext cx="65880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2404" t="29429" r="3924" b="25220"/>
          <a:stretch/>
        </p:blipFill>
        <p:spPr>
          <a:xfrm>
            <a:off x="433440" y="1112760"/>
            <a:ext cx="816120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080" y="4202280"/>
            <a:ext cx="2004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ga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osi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rim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3:46Z</dcterms:modified>
  <cp:revision>44</cp:revision>
  <dc:subject/>
  <dc:title>CTO - Clinical Trials/Research in the Ontology of Biomedical Investigation</dc:title>
</cp:coreProperties>
</file>